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687-BEDC-4CB6-BA26-BBB61C82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46D-AB95-4693-BC5F-5DCD117F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8E5-887B-4723-8D1C-D9351153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D4C-0F05-4C84-B559-8FD3F049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61F-1B2D-4687-AC4E-C7C487BA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C34-6D75-4B98-81F3-94FBADB9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971-DEDE-49DA-812F-8C481B7E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4F9-1623-4DC7-88AD-A6866DF1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D47-6FB0-4B63-BB68-07A67F2F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47B-9174-4C5E-9F28-BF4E9D2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77F-628C-42D1-80B0-71EC1770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54F-606D-491B-A1EC-D3A254ED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D4C4-3E22-4BAD-AE0B-46EA12030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reen.tv/unep_global_desertification_outlook" TargetMode="External"/><Relationship Id="rId2" Type="http://schemas.openxmlformats.org/officeDocument/2006/relationships/hyperlink" Target="http://images.google.com/imgres?imgurl=http://www.mccullagh.org/db9/1ds-4/sand-dune-sea-of-sand.jpg&amp;imgrefurl=http://www.mccullagh.org/photo/1ds-4/sand-dune-sea-of-sand&amp;usg=__yOC9kBzBJjT-fAET6GKrIAUcH-U=&amp;h=512&amp;w=768&amp;sz=121&amp;hl=en&amp;start=6&amp;um=1&amp;itbs=1&amp;tbnid=UxyWuMe4Rd1GwM:&amp;tbnh=95&amp;tbnw=142&amp;prev=/images%3Fq%3Dsand%26hl%3Den%26safe%3Dactive%26um%3D1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o.org/desertification/object/video/video10.mov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ioenergywiki.net/images/d/d1/Desertificatio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609480"/>
            <a:ext cx="58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reen.tv/unep_global_desertification_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ideo explains water usage and how it contributes to desertification. It also explains dust storms, and how the dirt can blow away easier from plant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Use-The land is not made to support huge fields of crops, and the water will get used up to quickly, eventually turning into a 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ao.org/desertification/object/video/video10.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ideo will show water irrigation in Egy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Desertification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acts and Ques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17 Feb. 2010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&lt;http://www.fao.org/desertification/default.asp?lang=en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9810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rtification is the process of fertile land changing into dry barren land or a 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caused naturally or by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289872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bility to support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d soil 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does not get absorbed into the soil for plants and even drought resistant plants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Desertificati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0"/>
            <a:ext cx="171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for 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causes, both natural and due to human interference are: mechanized land tillage, shortened fallow period, increased population densities and cultivating on virgin 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zed Land Til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zed land tillage is the use of a plough machine to turn, or rip the soil to mix the fertilizer and/or produce finer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38720" y="195732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ened Fallow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ned Fallow Periods – The time land is left unseeded during a growing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9528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one third of land is classified as a desert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next century this will rise by at least 17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% of Africa is classified as a desert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52680" y="3110040"/>
            <a:ext cx="5791320" cy="374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6576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y areas are already deserts, the red areas are where it is beginning to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does it eff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rtification effects everyone. You may not live near a desert, but when land becomes a desert it can no longer grow food which is then imported to you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and animals also lose their homes and habitat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1828800"/>
            <a:ext cx="3098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boy is taking care of irrigation channels in the desert near his home to try to return it to its fertile stat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10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17:35Z</dcterms:created>
  <dc:creator>SASD</dc:creator>
  <dc:description/>
  <dc:language>en-US</dc:language>
  <cp:lastModifiedBy>SASD</cp:lastModifiedBy>
  <dcterms:modified xsi:type="dcterms:W3CDTF">2010-02-18T14:22:45Z</dcterms:modified>
  <cp:revision>9</cp:revision>
  <dc:subject/>
  <dc:title>Slide 1</dc:title>
</cp:coreProperties>
</file>